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5.png" ContentType="image/png"/>
  <Override PartName="/ppt/media/image4.png" ContentType="image/png"/>
  <Override PartName="/ppt/media/image27.png" ContentType="image/png"/>
  <Override PartName="/ppt/media/image14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E41-01FD-4970-8CBF-4DEB90C0F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nal.g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317-F7EC-4971-A1C2-DBCF7D4C0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341-A1DA-42F3-97C5-7B715EA4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5684-0BAC-4C41-97A1-FB85B360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0BD2-B920-4C69-BEE0-3AB7F180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02F-1562-470E-9198-3A2C23B8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CA9-3AD4-4F3E-AEC4-05CB1E24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1CA2-038F-4AB1-8A51-4DB7DAC2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2BAF-635D-4D78-A976-D089D9BC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D38-F236-4631-B9CA-DEB61863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2C6-B70C-4FB7-9D2E-C72009F34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79EE-DD53-427C-8815-90D88C11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2145-08E7-4DCB-BFE6-3B846CE5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B87D-A569-4D4C-831C-ECFA1A45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"/>
          <p:cNvPicPr/>
          <p:nvPr/>
        </p:nvPicPr>
        <p:blipFill>
          <a:blip r:embed="rId1"/>
          <a:srcRect l="0" t="-2632" r="0" b="0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49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ww.fnal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7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89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8-03-22T10:09:15Z</dcterms:modified>
  <cp:revision>64</cp:revision>
  <dc:subject/>
  <dc:title>Space, Time and Einstein</dc:title>
</cp:coreProperties>
</file>